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6E84-5C8A-4964-B36A-6FBF0ED7B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E5F9-B4C9-4C11-BA65-5DCF21C481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3E15-8605-4EC0-AB70-EA57EC4012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33A9-F403-4364-8F9D-CE61211C47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95A0-A344-4C3B-8020-F18852ABD0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B579-74FF-4B2B-8A0A-D170CC2793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6EAE-FE10-46FC-BB98-C589B654F2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A622-B145-4A1B-BB9E-14FB0411B1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29AB-8310-4B97-94E2-C6C9FD354A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 poppy had become a symbol of death, renewal and life. The seeds of the flower can remain dormant in the earth for years, but will blossom spectacularly when the soil is chur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E885-2AFD-467E-BB9B-0009A97D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ED81-07C9-45BC-AF56-A82ECD3A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72DA-1809-4FEA-965F-3EF47892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D23C-4D60-4591-A4E2-FB7365B2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4D45-A14E-4B99-924C-030EB90D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6B0B-31E0-4912-8516-35757D63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1772-079B-4044-9359-46B80E1D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72AC-47A4-47D9-B543-7C5BEDC0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1068-931D-4334-8274-FD33712D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38A6-5D17-45B4-AD8B-CB95E015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B19A-AC42-4158-8680-73B403EB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6193-B84C-494B-B041-E71AF323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6EBD-EA91-4BA9-8AC4-8FECE389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72A0-BCC4-4866-85C4-FB967B35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C9F6-F45F-4780-A7F7-5AB9C7EC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C904-F2C3-4622-A9D1-931C969E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C8BC-A15A-4521-91D8-7616278B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ED59-71CA-44BB-BE66-63B28180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A66B-1BD1-4146-9566-A2E0CF58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5C27-39F6-46D5-8FE1-2DCFD0B5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5134-6C37-43CA-8C85-1DA19C43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2619-B73E-4564-B7CA-7E0BBA85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C760-F4B0-48C4-89FC-4049739A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D1D0-345C-4FBA-B2E1-BF052F96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f61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646759"/>
                  </a:gs>
                  <a:gs pos="100000">
                    <a:srgbClr val="676a5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50000">
                    <a:srgbClr val="676a5c"/>
                  </a:gs>
                  <a:gs pos="100000">
                    <a:srgbClr val="5e605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3983-4712-4BEC-B858-6884F31CFA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b7b6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7b6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f61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646759"/>
                  </a:gs>
                  <a:gs pos="100000">
                    <a:srgbClr val="676a5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50000">
                    <a:srgbClr val="676a5c"/>
                  </a:gs>
                  <a:gs pos="100000">
                    <a:srgbClr val="5e605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b7b6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7b6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0FB6-58BB-4F02-A882-975BEED5CA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f61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cc"/>
                </a:solidFill>
                <a:latin typeface="Tahoma"/>
              </a:rPr>
              <a:t>Aim:  What was the significance of D-Day?</a:t>
            </a:r>
            <a:br>
              <a:rPr sz="3700"/>
            </a:br>
            <a:r>
              <a:rPr b="0" lang="en-US" sz="3700" spc="-1" strike="noStrike">
                <a:solidFill>
                  <a:srgbClr val="ffffcc"/>
                </a:solidFill>
                <a:latin typeface="Tahoma"/>
              </a:rPr>
              <a:t>L40 </a:t>
            </a:r>
            <a:endParaRPr b="0" lang="en-US" sz="37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4" descr="SC320901"/>
          <p:cNvPicPr/>
          <p:nvPr/>
        </p:nvPicPr>
        <p:blipFill>
          <a:blip r:embed="rId1"/>
          <a:stretch/>
        </p:blipFill>
        <p:spPr>
          <a:xfrm>
            <a:off x="1295280" y="2057400"/>
            <a:ext cx="5791320" cy="46450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0" y="1294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w:  What do you know about D-Day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f61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was D-Day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520" y="609480"/>
            <a:ext cx="854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KA Operation Overlor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ne, 6 1944 -Allied troops invaded France (at Normandy beaches) in the largest sea invasion in histo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7b6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ade the coast and push the Germans out of France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5f61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in 24 hours the Allies secured the beach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asualties were very high regardless of the battles succes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Picture 5" descr="d day"/>
          <p:cNvPicPr/>
          <p:nvPr/>
        </p:nvPicPr>
        <p:blipFill>
          <a:blip r:embed="rId1"/>
          <a:stretch/>
        </p:blipFill>
        <p:spPr>
          <a:xfrm>
            <a:off x="4343400" y="3733920"/>
            <a:ext cx="4800600" cy="3124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6" descr="SC190366"/>
          <p:cNvPicPr/>
          <p:nvPr/>
        </p:nvPicPr>
        <p:blipFill>
          <a:blip r:embed="rId2"/>
          <a:stretch/>
        </p:blipFill>
        <p:spPr>
          <a:xfrm>
            <a:off x="0" y="1981080"/>
            <a:ext cx="43434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5f61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Ultimately Successfu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the end of August 1944 all of northern France was libera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-Day signaled the beginning of the end of WWI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1" name="Picture 4" descr="liberation of paris"/>
          <p:cNvPicPr/>
          <p:nvPr/>
        </p:nvPicPr>
        <p:blipFill>
          <a:blip r:embed="rId1"/>
          <a:stretch/>
        </p:blipFill>
        <p:spPr>
          <a:xfrm>
            <a:off x="1676520" y="3086280"/>
            <a:ext cx="5029200" cy="377172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5"/>
          <p:cNvSpPr/>
          <p:nvPr/>
        </p:nvSpPr>
        <p:spPr>
          <a:xfrm>
            <a:off x="6705720" y="3200400"/>
            <a:ext cx="2133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Tahoma"/>
              </a:rPr>
              <a:t>August 29, 194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Tahoma"/>
              </a:rPr>
              <a:t>The Liberation of Par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f61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- Day Evidence Activity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304920" y="1219320"/>
          <a:ext cx="8540640" cy="5126040"/>
        </p:xfrm>
        <a:graphic>
          <a:graphicData uri="http://schemas.openxmlformats.org/drawingml/2006/table">
            <a:tbl>
              <a:tblPr/>
              <a:tblGrid>
                <a:gridCol w="2135160"/>
                <a:gridCol w="2135160"/>
                <a:gridCol w="2135160"/>
                <a:gridCol w="2135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utcom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809ea8"/>
                      </a:solidFill>
                    </a:lnL>
                    <a:lnR>
                      <a:noFill/>
                    </a:lnR>
                    <a:lnT w="5760">
                      <a:solidFill>
                        <a:srgbClr val="809ea8"/>
                      </a:solidFill>
                    </a:lnT>
                    <a:lnB w="5760">
                      <a:solidFill>
                        <a:srgbClr val="809ea8"/>
                      </a:solidFill>
                    </a:lnB>
                    <a:solidFill>
                      <a:srgbClr val="809e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ceeding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9ea8"/>
                      </a:solidFill>
                    </a:lnT>
                    <a:lnB w="5760">
                      <a:solidFill>
                        <a:srgbClr val="809ea8"/>
                      </a:solidFill>
                    </a:lnB>
                    <a:solidFill>
                      <a:srgbClr val="809e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eting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9ea8"/>
                      </a:solidFill>
                    </a:lnT>
                    <a:lnB w="5760">
                      <a:solidFill>
                        <a:srgbClr val="809ea8"/>
                      </a:solidFill>
                    </a:lnB>
                    <a:solidFill>
                      <a:srgbClr val="809e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t Ye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9ea8"/>
                      </a:solidFill>
                    </a:lnR>
                    <a:lnT w="5760">
                      <a:solidFill>
                        <a:srgbClr val="809ea8"/>
                      </a:solidFill>
                    </a:lnT>
                    <a:lnB w="5760">
                      <a:solidFill>
                        <a:srgbClr val="809ea8"/>
                      </a:solidFill>
                    </a:lnB>
                    <a:solidFill>
                      <a:srgbClr val="809ea8"/>
                    </a:solidFill>
                  </a:tcPr>
                </a:tc>
              </a:tr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676a5c"/>
                          </a:solidFill>
                          <a:latin typeface="Tahoma"/>
                        </a:rPr>
                        <a:t>Explore the causes and consequences of major wars of the 1900’s.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809ea8"/>
                      </a:solidFill>
                    </a:lnL>
                    <a:lnR>
                      <a:noFill/>
                    </a:lnR>
                    <a:lnT w="5760">
                      <a:solidFill>
                        <a:srgbClr val="809ea8"/>
                      </a:solidFill>
                    </a:lnT>
                    <a:lnB w="5760">
                      <a:solidFill>
                        <a:srgbClr val="809ea8"/>
                      </a:solidFill>
                    </a:lnB>
                    <a:solidFill>
                      <a:srgbClr val="edf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676a5c"/>
                          </a:solidFill>
                          <a:latin typeface="Tahoma"/>
                        </a:rPr>
                        <a:t>Viewing guide is clear and thorough and provides accurate notes from film viewing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676a5c"/>
                          </a:solidFill>
                          <a:latin typeface="Tahoma"/>
                        </a:rPr>
                        <a:t>Guided question write up is detailed, accurate and thorough.  Blends information from multiple sources in a clear and purposeful way to illustrate detailed historical understanding.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9ea8"/>
                      </a:solidFill>
                    </a:lnT>
                    <a:lnB w="5760">
                      <a:solidFill>
                        <a:srgbClr val="809ea8"/>
                      </a:solidFill>
                    </a:lnB>
                    <a:solidFill>
                      <a:srgbClr val="edf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676a5c"/>
                          </a:solidFill>
                          <a:latin typeface="Tahoma"/>
                        </a:rPr>
                        <a:t>Viewing guide is clear and provides notes from film viewing for creation of written piece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676a5c"/>
                          </a:solidFill>
                          <a:latin typeface="Tahoma"/>
                        </a:rPr>
                        <a:t>Guided question write up is clear and accurate.  Uses information from multiple sources (film, notes and homework) to illustrate specific understanding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9ea8"/>
                      </a:solidFill>
                    </a:lnT>
                    <a:lnB w="5760">
                      <a:solidFill>
                        <a:srgbClr val="809ea8"/>
                      </a:solidFill>
                    </a:lnB>
                    <a:solidFill>
                      <a:srgbClr val="edf0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676a5c"/>
                          </a:solidFill>
                          <a:latin typeface="Tahoma"/>
                        </a:rPr>
                        <a:t>Viewing guide is vague and/ or minimal and provides limited notes from film viewing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676a5c"/>
                          </a:solidFill>
                          <a:latin typeface="Tahoma"/>
                        </a:rPr>
                        <a:t>Guided question write up is vague/ general. Lacks specific examples. Does not incorporate information from multiple sources provide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9ea8"/>
                      </a:solidFill>
                    </a:lnR>
                    <a:lnT w="5760">
                      <a:solidFill>
                        <a:srgbClr val="809ea8"/>
                      </a:solidFill>
                    </a:lnT>
                    <a:lnB w="5760">
                      <a:solidFill>
                        <a:srgbClr val="809ea8"/>
                      </a:solidFill>
                    </a:lnB>
                    <a:solidFill>
                      <a:srgbClr val="edf0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f61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6" name="Picture 4" descr=""/>
          <p:cNvPicPr/>
          <p:nvPr/>
        </p:nvPicPr>
        <p:blipFill>
          <a:blip r:embed="rId1"/>
          <a:srcRect l="12524" t="13888" r="6086" b="16668"/>
          <a:stretch/>
        </p:blipFill>
        <p:spPr>
          <a:xfrm>
            <a:off x="228600" y="152280"/>
            <a:ext cx="8458200" cy="63439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f61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5" descr="d day map"/>
          <p:cNvPicPr/>
          <p:nvPr/>
        </p:nvPicPr>
        <p:blipFill>
          <a:blip r:embed="rId1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f61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isenhower giving orders to troops: 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“Full victory-nothing else.”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0" name="Picture 4" descr="sc194399"/>
          <p:cNvPicPr/>
          <p:nvPr/>
        </p:nvPicPr>
        <p:blipFill>
          <a:blip r:embed="rId1"/>
          <a:stretch/>
        </p:blipFill>
        <p:spPr>
          <a:xfrm>
            <a:off x="1219320" y="1473120"/>
            <a:ext cx="662940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f61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Remembering D-Day: The 60</a:t>
            </a:r>
            <a:r>
              <a:rPr b="1" lang="en-US" sz="28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Anniversary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2" name="Picture 4" descr="_40239103_poppies300"/>
          <p:cNvPicPr/>
          <p:nvPr/>
        </p:nvPicPr>
        <p:blipFill>
          <a:blip r:embed="rId1"/>
          <a:stretch/>
        </p:blipFill>
        <p:spPr>
          <a:xfrm>
            <a:off x="533520" y="1219320"/>
            <a:ext cx="3606840" cy="5410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_40240013_flags_pa_300220"/>
          <p:cNvPicPr/>
          <p:nvPr/>
        </p:nvPicPr>
        <p:blipFill>
          <a:blip r:embed="rId2"/>
          <a:stretch/>
        </p:blipFill>
        <p:spPr>
          <a:xfrm>
            <a:off x="4114800" y="1219320"/>
            <a:ext cx="4419720" cy="2962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_40239885_bus-afp-203body"/>
          <p:cNvPicPr/>
          <p:nvPr/>
        </p:nvPicPr>
        <p:blipFill>
          <a:blip r:embed="rId3"/>
          <a:stretch/>
        </p:blipFill>
        <p:spPr>
          <a:xfrm>
            <a:off x="4114800" y="4038480"/>
            <a:ext cx="441972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15:59:51Z</dcterms:created>
  <dc:creator>ITSC</dc:creator>
  <dc:description/>
  <dc:language>en-US</dc:language>
  <cp:lastModifiedBy>NYCDOE</cp:lastModifiedBy>
  <dcterms:modified xsi:type="dcterms:W3CDTF">2012-02-29T12:35:15Z</dcterms:modified>
  <cp:revision>18</cp:revision>
  <dc:subject/>
  <dc:title>D-Day</dc:title>
</cp:coreProperties>
</file>